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F45-E26D-4CE5-AE32-EC6BB125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C7F-0804-4D40-8475-F472F446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AA9-F60A-45FD-8C51-4D4EC6F4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700-0286-4C5B-9809-B3C1140F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7B8B2-97F7-45BA-8651-CD0DAAE3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84A3D-5ED0-4A45-AFB1-C2B5F846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CF636-02C7-4DC9-AB46-67A276A0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41F94-38CF-4138-8021-199A6C05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0762-BD60-4210-90EE-2E114243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E54C7-6C8F-42E6-BED9-B130F782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EE5E1-6602-4A4A-9452-F01E0444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6FF-C07D-45ED-ABAB-451E2E44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46C4C-3359-49A2-83AD-7F68389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3AC7E-2FF7-4137-877C-5D10DAEE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AC00D-4F7D-4089-8145-8A3D8145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151AC-ACC6-4F61-8112-F4A92D90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35CA2-3F4E-4871-9CEC-CA9CC648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AC4-36F0-4AFA-AD2E-A5FFB1CE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144-059A-4028-9EB5-78A6CE49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A29-77B5-4423-B14C-253FD3FF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012-3459-440D-BE47-FED06972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013-FFC4-4C73-B1D8-007397A2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696-E059-408A-B641-4DDA0884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A5C-B6EC-4D16-B9BB-BE1D09A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494D-75E2-44C6-83A9-856C2870B1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F2A-E61F-4E19-9BA1-898563A26B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ultura Cajamar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o Mej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no Ran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ograf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006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ultura Cajamarca se asentó en el norte del Perú, en Cajamarca, desde 200 a.C hasta 1300 d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448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teneció al INTERMEDIO TEMPRANO desde 200 d.C hasta 1300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1948, el investigador Henry Reichlen dividió la cultura Cajamarca en 5 etap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495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Económico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producción agrícola destaca por la siembra de papa, trigo, cebada, maíz, oca, olluco, mashua, arracacha, quinua, cañihua, caña de azúcar y algod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666880" cy="2590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457360" cy="2590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124080" y="4191120"/>
            <a:ext cx="30862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Cerámic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0060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ámica de Cajamarca está hecha en base a la arcilla blanca llamada “caolín”, que sirve de fondo para las decor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0000002cbb[1]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571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quitectu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han reconocido seis tipos distintos de asentamientos en Cajamarc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equeñas estructuras aisl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upos aislados de recintos aglutina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upos de recintos de tamaño media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upos de canchones cerca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nchones rectangulares aisla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structuras defensivas con fosas y muralla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6576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4419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ma templad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seco y soleado en el día y frío en la noche. Lluvias de diciembre a marzo y la temperatura media anual de 13.8°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581280" cy="2798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20040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Muchas gracias por su atencio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1:31:11Z</dcterms:created>
  <dc:creator>Mariano</dc:creator>
  <dc:description/>
  <dc:language>en-US</dc:language>
  <cp:lastModifiedBy>Mariano</cp:lastModifiedBy>
  <dcterms:modified xsi:type="dcterms:W3CDTF">2009-11-11T23:17:52Z</dcterms:modified>
  <cp:revision>3</cp:revision>
  <dc:subject/>
  <dc:title>Cultura Cajamarca</dc:title>
</cp:coreProperties>
</file>